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2.wmf" ContentType="image/x-wmf"/>
  <Override PartName="/ppt/media/cashreg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3A82-1BF8-4A1B-8CC3-36AA3C0A42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ая средняя  шко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астовского  райо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Урок  по  обществознанию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сибулл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7989-7F73-427C-8DE0-BDAA037579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гиональные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имущество 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о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 с  юридических лиц  на  нужды  образовательных 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F022-6B39-4715-9ED7-FF97F49FBB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ульнур Хайда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ублики Татар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пастово, 2003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81E9-86C8-46C8-94F8-93D8ED722B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и  как  источник  доходов государ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ы  можешь  и   не заметить, что  у тебя  всё  идёт хорошо, но  налоговая  служба напомн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 Дани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0D3-8537-4891-9963-1D35D57C3A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логовая систе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4762-7F19-4C2E-8634-DEEC5DAE5B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ff00"/>
                </a:solidFill>
                <a:uFillTx/>
                <a:latin typeface="Calibri"/>
              </a:rPr>
              <a:t>Экономическая сущность  налога</a:t>
            </a:r>
            <a:r>
              <a:rPr b="0" lang="ru-RU" sz="1800" spc="-1" strike="noStrike">
                <a:solidFill>
                  <a:srgbClr val="00ff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валового  внутренне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 себестоимости 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 личного  дохода 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Методы  налогооб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св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деклар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ACCF-2E9B-47C9-ADBF-5E9D1623C8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на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D531-50A9-4152-93CC-70D2E4A2D0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Console"/>
              </a:rPr>
              <a:t>Прям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прибы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 на 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ные  плате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42D9-9429-4DD5-A736-60597D208C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добавленную 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кци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Таможенные  пошл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лог  на  операции с  ценными 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E4DC-A314-4273-99A6-C757EE319B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12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Федеральные 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Региональные 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Местные  налоги</a:t>
            </a:r>
            <a:r>
              <a:rPr b="0" lang="ru-RU" sz="1100" spc="-1" strike="noStrike">
                <a:solidFill>
                  <a:srgbClr val="0066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89F-8483-4997-BE03-10393FA420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 на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добавленную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зы  на  отдельные  группы и  виды 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ходный  нал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оженная  пош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бовый  с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 на  наследуемое  и  даримое  иму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A1B6-55A4-4D0E-8228-9398BBD6CA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1C6-932D-4B67-9419-A49B62AB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AEB-9CF7-4D22-A592-19F1BEB9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4B0-B97F-4AD1-9234-D3DE6B04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E82-B5B0-445D-8142-43B8D9DC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8A2E-AB9B-416D-BEB4-FA26A858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E62E-22B9-4DA6-9ADD-CA669E5E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8935-AE1C-49EC-A70C-EAAAF7B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8923-3C9E-41C6-9EB0-65998277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E0F-2A9A-4959-869D-FA20881F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5A97-B491-49E4-A6FD-2F40F6D9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DBA3-A3D5-408E-8577-907B563F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1CEB-3663-429B-B9F6-10EB750D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D801-D6BD-4780-AC72-673255B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5A39-3E07-4572-ADA8-A7DB8D2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413F-8841-44FF-9840-18D3581F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1469-90BE-4BA0-A806-170F4000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91D0-C151-4547-878A-55130138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DEA-611F-4DE2-AA8E-C1F686D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4FE-5752-4E81-85D7-58254544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281-6D23-4F77-8C9E-1FDD4A7B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E58-26D7-4726-B750-3CD889E4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38F4-B92B-47B9-866D-48879E0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DAE-F7A4-410E-B0DF-34C1E42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0EC-EA3C-4C5B-8F49-89BC46E9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C762-ACBE-48AA-A676-0E9F8FDFF6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E82-BF04-457E-B069-FA98546670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ая средняя  школ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пастовского  райо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Республики Татарстан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к  по  обществознани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66"/>
                </a:solidFill>
                <a:latin typeface="Tahoma"/>
              </a:rPr>
              <a:t>Налоги  и  бюджет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Учит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 Насибулли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ульнур Хайдаро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cc"/>
                </a:solidFill>
                <a:latin typeface="Times New Roman"/>
              </a:rPr>
              <a:t>Региональные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  на  имущество  предпри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есной  нало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бор  с  юридических лиц  на  нужды  образовательных  учрежде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6" descr="PE03254_"/>
          <p:cNvPicPr/>
          <p:nvPr/>
        </p:nvPicPr>
        <p:blipFill>
          <a:blip r:embed="rId1"/>
          <a:stretch/>
        </p:blipFill>
        <p:spPr>
          <a:xfrm>
            <a:off x="5105520" y="1600200"/>
            <a:ext cx="3657600" cy="4191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D21308_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09880" y="685800"/>
            <a:ext cx="1828800" cy="21337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Элемен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налог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3200400" y="1676520"/>
            <a:ext cx="609480" cy="4572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867280" y="1066680"/>
            <a:ext cx="3048120" cy="152424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Tahoma"/>
              </a:rPr>
              <a:t>Носитель налога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лицо, с 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удерживается налог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952880" y="3886200"/>
            <a:ext cx="3733920" cy="220968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ahoma"/>
              </a:rPr>
              <a:t>Источник  налог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доход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из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котор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уплачив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ahoma"/>
              </a:rPr>
              <a:t>налог</a:t>
            </a: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304920" y="1295280"/>
            <a:ext cx="3276360" cy="129564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огоплательщ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457200" y="3886200"/>
            <a:ext cx="3124080" cy="2209680"/>
          </a:xfrm>
          <a:prstGeom prst="rect">
            <a:avLst/>
          </a:prstGeom>
          <a:solidFill>
            <a:srgbClr val="ff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  налог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ход, имуществ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ов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527400" y="1862280"/>
            <a:ext cx="2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3352680" y="2743200"/>
            <a:ext cx="4572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Line 25"/>
          <p:cNvSpPr/>
          <p:nvPr/>
        </p:nvSpPr>
        <p:spPr>
          <a:xfrm>
            <a:off x="5638680" y="2819520"/>
            <a:ext cx="533520" cy="106668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5638680" y="2133360"/>
            <a:ext cx="228600" cy="7596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2286000" y="838080"/>
            <a:ext cx="4648320" cy="14479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ahoma"/>
              </a:rPr>
              <a:t>Налоговые  системы</a:t>
            </a: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Line 4"/>
          <p:cNvSpPr/>
          <p:nvPr/>
        </p:nvSpPr>
        <p:spPr>
          <a:xfrm flipH="1">
            <a:off x="1447560" y="2286000"/>
            <a:ext cx="99036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419720" y="2286000"/>
            <a:ext cx="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6934320" y="2286000"/>
            <a:ext cx="838080" cy="1447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09480" y="3886200"/>
            <a:ext cx="1828800" cy="23623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пор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циона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657600" y="3962520"/>
            <a:ext cx="190512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Прогрес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934320" y="4038480"/>
            <a:ext cx="1828800" cy="228600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Регрес 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ahoma"/>
              </a:rPr>
              <a:t>сив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Oval 2"/>
          <p:cNvSpPr/>
          <p:nvPr/>
        </p:nvSpPr>
        <p:spPr>
          <a:xfrm>
            <a:off x="2666880" y="609480"/>
            <a:ext cx="3581640" cy="16002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Tahoma"/>
              </a:rPr>
              <a:t>Бюджет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066680" y="3200400"/>
            <a:ext cx="266724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До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налоги, сбо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562720" y="3200400"/>
            <a:ext cx="2438280" cy="2286000"/>
          </a:xfrm>
          <a:prstGeom prst="rect">
            <a:avLst/>
          </a:prstGeom>
          <a:solidFill>
            <a:srgbClr val="ff33cc"/>
          </a:solidFill>
          <a:ln cap="sq"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ahoma"/>
              </a:rPr>
              <a:t>Расхо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социаль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выпл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2286000" y="2057400"/>
            <a:ext cx="914400" cy="121932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5791320" y="2057400"/>
            <a:ext cx="1143000" cy="1143000"/>
          </a:xfrm>
          <a:prstGeom prst="line">
            <a:avLst/>
          </a:prstGeom>
          <a:ln cap="sq" w="1260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1024" descr="J0237202"/>
          <p:cNvPicPr/>
          <p:nvPr/>
        </p:nvPicPr>
        <p:blipFill>
          <a:blip r:embed="rId1"/>
          <a:stretch/>
        </p:blipFill>
        <p:spPr>
          <a:xfrm>
            <a:off x="3492360" y="2276640"/>
            <a:ext cx="2283120" cy="22478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Автор – Насибуллина </a:t>
            </a:r>
            <a:br>
              <a:rPr sz="4000"/>
            </a:br>
            <a:r>
              <a:rPr b="0" lang="ru-RU" sz="4000" spc="-1" strike="noStrike">
                <a:solidFill>
                  <a:srgbClr val="66ffff"/>
                </a:solidFill>
                <a:latin typeface="Times New Roman"/>
              </a:rPr>
              <a:t>Гульнур Хайдаровн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Учитель  истории  и  обществознания высшей  квалификационной категории Апастовской  средней школы Апастовского  райо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Республики Татарст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ff"/>
                </a:solidFill>
                <a:latin typeface="Times New Roman"/>
              </a:rPr>
              <a:t>Апастово, 2003 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000">
    <p:pull dir="l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логи  как  источник  доходов государства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ы  можешь  и   не заметить, что  у тебя  всё  идёт хорошо, но  налоговая  служба напомн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ьер  Данинос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PE01460_"/>
          <p:cNvPicPr/>
          <p:nvPr/>
        </p:nvPicPr>
        <p:blipFill>
          <a:blip r:embed="rId1"/>
          <a:stretch/>
        </p:blipFill>
        <p:spPr>
          <a:xfrm>
            <a:off x="4761000" y="1641600"/>
            <a:ext cx="3584520" cy="4454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925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</a:rPr>
              <a:t>Налоговая систем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                                 – совокупность  налогов, форм  и  методов  их  построения  и  взимания, определяемая  законодательством  государства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Line 6"/>
          <p:cNvSpPr/>
          <p:nvPr/>
        </p:nvSpPr>
        <p:spPr>
          <a:xfrm flipH="1">
            <a:off x="1904760" y="3505320"/>
            <a:ext cx="16002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5562720" y="3505320"/>
            <a:ext cx="152388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4114800"/>
            <a:ext cx="228600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6172200" y="4114800"/>
            <a:ext cx="2133720" cy="1905120"/>
          </a:xfrm>
          <a:prstGeom prst="rect">
            <a:avLst/>
          </a:pr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14400" y="42242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Налог  как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финансо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систе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6461280" y="4495680"/>
            <a:ext cx="1672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Элемент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4568"/>
                </a:solidFill>
                <a:uFillTx/>
                <a:latin typeface="Tahoma"/>
                <a:hlinkClick r:id="rId1" action="ppaction://hlinksldjump"/>
              </a:rPr>
              <a:t>налога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4568"/>
                </a:solidFill>
                <a:uFillTx/>
                <a:latin typeface="Times New Roman"/>
                <a:hlinkClick r:id="rId1" action="ppaction://hlinksldjump"/>
              </a:rPr>
              <a:t>Экономическая</a:t>
            </a:r>
            <a:r>
              <a:rPr b="0" i="1" lang="ru-RU" sz="4000" spc="-1" strike="noStrike" u="sng">
                <a:solidFill>
                  <a:srgbClr val="00ff00"/>
                </a:solidFill>
                <a:uFillTx/>
                <a:latin typeface="Times New Roman"/>
              </a:rPr>
              <a:t> сущность  налога</a:t>
            </a:r>
            <a:r>
              <a:rPr b="0" lang="ru-RU" sz="4000" spc="-1" strike="noStrike">
                <a:solidFill>
                  <a:srgbClr val="00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валового  внутреннего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 себестоимости  продук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прибыл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асть  личного  дохода  работни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Методы  налогообложения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ям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ccecff"/>
                </a:solidFill>
                <a:latin typeface="Times New Roman"/>
              </a:rPr>
              <a:t>Косвен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войно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говая деклара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4">
            <a:hlinkClick r:id="rId2" action="ppaction://hlinksldjump"/>
          </p:cNvPr>
          <p:cNvSpPr/>
          <p:nvPr/>
        </p:nvSpPr>
        <p:spPr>
          <a:xfrm>
            <a:off x="769608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Функции налогов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ск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гулирующ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4" descr="PE01561_"/>
          <p:cNvPicPr/>
          <p:nvPr/>
        </p:nvPicPr>
        <p:blipFill>
          <a:blip r:embed="rId1"/>
          <a:stretch/>
        </p:blipFill>
        <p:spPr>
          <a:xfrm>
            <a:off x="4114800" y="3048120"/>
            <a:ext cx="4583160" cy="30416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45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Lucida Console"/>
              </a:rPr>
              <a:t>Прям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атит  сам налогоплательщик  из  своей  прибыли  независимо  от  статуса  его  лица ( юридического  или  физического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Виды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  на  прибы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имуществ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логи  на  дохо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сурсные  платеж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BD06455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248520" y="3886200"/>
            <a:ext cx="1888920" cy="1874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6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0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SLCourier New Cyr"/>
              </a:rPr>
              <a:t>Косвен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Платит  потребитель  продукции,  выпускаемой  и  продаваемой  на  рынке  товаров,  работ  и  услу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SL Academy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добавленную  стоимос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Акциз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Таможенные  пошли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Налог  на  операции с  ценными  бумаг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4" descr="PE01616_"/>
          <p:cNvPicPr/>
          <p:nvPr/>
        </p:nvPicPr>
        <p:blipFill>
          <a:blip r:embed="rId1"/>
          <a:stretch/>
        </p:blipFill>
        <p:spPr>
          <a:xfrm>
            <a:off x="6818400" y="2590920"/>
            <a:ext cx="1944720" cy="23619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6600"/>
                </a:solidFill>
                <a:uFillTx/>
                <a:latin typeface="SL Broadway"/>
              </a:rPr>
              <a:t>Виды налогов</a:t>
            </a:r>
            <a:r>
              <a:rPr b="0" lang="ru-RU" sz="4400" spc="-1" strike="noStrike">
                <a:solidFill>
                  <a:srgbClr val="006600"/>
                </a:solidFill>
                <a:latin typeface="SLCourier New Cyr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Федеральные  налог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егиональные  налог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Местные  налоги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BD05515_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8080" y="1295280"/>
            <a:ext cx="2590920" cy="2971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Федеральные  налоги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добавленную стоим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Акцизы  на  отдельные  группы и  виды  товар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доходный  нало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Таможенная  пошли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Гербовый  сбор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лог  на  наследуемое  и  даримое  имущество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4">
            <a:hlinkClick r:id="" action="ppaction://hlinkshowjump?jump=previousslide"/>
          </p:cNvPr>
          <p:cNvSpPr/>
          <p:nvPr/>
        </p:nvSpPr>
        <p:spPr>
          <a:xfrm>
            <a:off x="7696080" y="53341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cc"/>
          </a:solidFill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2000">
    <p:pull dir="l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9:36:13Z</dcterms:created>
  <dc:creator>User</dc:creator>
  <dc:description/>
  <dc:language>en-US</dc:language>
  <cp:lastModifiedBy>LEGION</cp:lastModifiedBy>
  <dcterms:modified xsi:type="dcterms:W3CDTF">2015-01-05T10:02:53Z</dcterms:modified>
  <cp:revision>12</cp:revision>
  <dc:subject/>
  <dc:title>Апастовская средняя  школа.</dc:title>
</cp:coreProperties>
</file>